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E685-19F3-4465-BCC3-934F87532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D3AD-24E8-49C1-BAED-7DDDFDE5F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8072-1C30-493B-ADF0-0178095B8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F50D-EB71-4166-ACBE-6EB3FEE83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DC5A-70E8-4A05-8A2C-5840E56B9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1463-8C0A-4392-A25D-4CBBA3AB8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49BF-9B41-4899-8C9D-57E52415A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8CEA-6B3A-40C7-89A1-452E81EF3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6470-D5FD-4196-8DDA-C001FBAF4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DD1B-4C10-4147-8975-109243447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DB8A-4C8E-4276-803B-7B9E049C1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A0E8-A297-4E24-ABA5-34648443E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58A-BE65-4095-8C1B-E75069CA241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Revisiting the Unit Plan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10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Showing Evidenc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tion and foundation sections, if neede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Student Assessment Plan section, add your ideas for how you would assess the learning throughout the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Assessment Timeline, as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Proced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Unit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0C62-D424-422C-9194-B379F2D9B9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Results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1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28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thoughts about your experience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try out an idea for your main unit or for a different project id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ing your test results, do you think you will keep this tool in your uni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itting in with the objectives and standards you are trying to target—and your overall plan for your uni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nhancing your students’ higher-order thinking skills as well as collaboration and communication in your classroo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6266-8ABB-4F65-B7B7-656045FF57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Showing Evidence Project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.1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f you anticipate that a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 will be imple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for your unit because it is a good fit for the unit’s objectives, comple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ny unfinished elements of your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nclude appropriate references, comments and analysis in your stud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sample that you would expect your students to include in thei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s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Make any necessary edits to the project itself, and save your chang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CC24-3C09-4525-9429-1925098450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4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odule 10</a:t>
            </a:r>
            <a:br>
              <a:rPr sz="2600"/>
            </a:br>
            <a:br>
              <a:rPr sz="9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16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2000160"/>
          <a:ext cx="8237520" cy="371484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0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2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ase should require students to analyze any of the following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roversial iss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batable top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ral or ethical dilem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ocial iss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allenge to an existing opin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case should contain supporting and opposing evidence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 sufficient quantity and quality to adequately answer the prompt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0192-A94E-4E64-993C-C60DC2F49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1</a:t>
            </a:r>
            <a:r>
              <a:rPr b="1" lang="en-US" sz="31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3100"/>
            </a:br>
            <a:endParaRPr b="1" lang="en-US" sz="3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752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mpleting Your 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lore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n assessment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te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owca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aluate the cour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C53F-1B3B-4D2D-B449-CEB5F396F4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5B5D-B192-4E98-AEBC-B8F5AA41D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990720"/>
          <a:ext cx="8237520" cy="4914720"/>
        </p:xfrm>
        <a:graphic>
          <a:graphicData uri="http://schemas.openxmlformats.org/drawingml/2006/table">
            <a:tbl>
              <a:tblPr/>
              <a:tblGrid>
                <a:gridCol w="1447920"/>
                <a:gridCol w="67896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8600" indent="-227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derstand how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 Tool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upports the argumentation 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ew and rate evi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best uses for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8600" indent="-22716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t up a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proje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1116-65AB-4268-A879-7E8B647F88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10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onsidering the Showing Evidence Tool for Your Uni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effective questioning techniq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cases and Unit Pla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xperien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1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mpleting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C5DD-2B14-4C6D-9CC7-DF0304222A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0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Showing Evidence Tool for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Your Unit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1120" y="175248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cas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24080"/>
            <a:ext cx="4195800" cy="45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582F-FB06-4E43-A1E8-D6B8B99E45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reating a Practice Case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1–10.0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udent Log-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the project nam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new clai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te the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tach evidence to clai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te the suppor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evidence to rate the clai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ke a conclus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4C40-374B-4292-BBC2-3C5377BE51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ewing Student Work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5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s a teac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og in to the Teacher Workspace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the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ke a com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0D98-E50E-410B-AD49-173ADD59AC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Practice Case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Practice Case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unit’s topic, learning objectives, and overall concept with your reviewing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g in to each team’s Student Workspace: www.intel.com/education/au/showingevidenc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eam’s work and make com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flecting on Your Case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Showing Evidence Project Reflection Checklist and the Project Rubric on page 2.18 to review on each other’s ca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D65D-FD8A-42AC-A394-5B9F63BC1A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10.08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Editing Your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ke changes to any of the project detai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Revising Your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new ideas from your colleague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Internet to research evidence to add to your initial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F631-E394-437F-9C09-31D399AC5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derstanding Best Classroom Practices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10.09–10.1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sma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out your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ablish project expec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teams to succe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gn teams and review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creating an initial set of sources for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a practice c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multiple methods of assess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41BA-6547-46F6-9561-F1061CD497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8:27Z</dcterms:modified>
  <cp:revision>162</cp:revision>
  <dc:subject/>
  <dc:title>Presentation Title Goes Here</dc:title>
</cp:coreProperties>
</file>